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d3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026097-5AE7-42ED-912D-6B54F9D860EA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0" y="2500200"/>
            <a:ext cx="9144000" cy="17618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ОКРУЖАЮЩ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КИЕ БЫВАЮТ РАСТЕ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TextBox 3"/>
          <p:cNvGrpSpPr/>
          <p:nvPr/>
        </p:nvGrpSpPr>
        <p:grpSpPr>
          <a:xfrm>
            <a:off x="6797520" y="4211640"/>
            <a:ext cx="2401920" cy="609480"/>
            <a:chOff x="6797520" y="4211640"/>
            <a:chExt cx="2401920" cy="609480"/>
          </a:xfrm>
        </p:grpSpPr>
        <p:pic>
          <p:nvPicPr>
            <p:cNvPr id="41" name="TextBox 3" descr=""/>
            <p:cNvPicPr/>
            <p:nvPr/>
          </p:nvPicPr>
          <p:blipFill>
            <a:blip r:embed="rId2"/>
            <a:stretch/>
          </p:blipFill>
          <p:spPr>
            <a:xfrm>
              <a:off x="6797520" y="4211640"/>
              <a:ext cx="2401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858000" y="4286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 КЛА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Звуки природы - Звуки леса  (audiopoisk.com).mp3" descr=""/>
          <p:cNvPicPr/>
          <p:nvPr/>
        </p:nvPicPr>
        <p:blipFill>
          <a:blip r:embed="rId3"/>
          <a:stretch/>
        </p:blipFill>
        <p:spPr>
          <a:xfrm>
            <a:off x="8839080" y="62150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6"/>
          <p:cNvGrpSpPr/>
          <p:nvPr/>
        </p:nvGrpSpPr>
        <p:grpSpPr>
          <a:xfrm>
            <a:off x="4011480" y="5346720"/>
            <a:ext cx="5187960" cy="474480"/>
            <a:chOff x="4011480" y="5346720"/>
            <a:chExt cx="5187960" cy="47448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11480" y="5346720"/>
              <a:ext cx="5187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071960" y="5380200"/>
              <a:ext cx="5072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"/>
          <p:cNvGrpSpPr/>
          <p:nvPr/>
        </p:nvGrpSpPr>
        <p:grpSpPr>
          <a:xfrm>
            <a:off x="-60480" y="762120"/>
            <a:ext cx="6832800" cy="1073160"/>
            <a:chOff x="-60480" y="762120"/>
            <a:chExt cx="6832800" cy="1073160"/>
          </a:xfrm>
        </p:grpSpPr>
        <p:pic>
          <p:nvPicPr>
            <p:cNvPr id="142" name="TextBox 2" descr=""/>
            <p:cNvPicPr/>
            <p:nvPr/>
          </p:nvPicPr>
          <p:blipFill>
            <a:blip r:embed="rId1"/>
            <a:stretch/>
          </p:blipFill>
          <p:spPr>
            <a:xfrm>
              <a:off x="-60480" y="762120"/>
              <a:ext cx="6832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928800"/>
              <a:ext cx="671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упповая работ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"/>
          <p:cNvSpPr/>
          <p:nvPr/>
        </p:nvSpPr>
        <p:spPr>
          <a:xfrm>
            <a:off x="500040" y="3000240"/>
            <a:ext cx="5929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ГРУППЫ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00040" y="3929040"/>
            <a:ext cx="59292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ЕМАТИЧЕСКИ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00040" y="4857840"/>
            <a:ext cx="59292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Д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какие группы деля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00040" y="5715000"/>
            <a:ext cx="592920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 РАСТЕНИЙ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ИТЕЛЕЙ ДАН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TextBox 7"/>
          <p:cNvGrpSpPr/>
          <p:nvPr/>
        </p:nvGrpSpPr>
        <p:grpSpPr>
          <a:xfrm>
            <a:off x="1365120" y="1841400"/>
            <a:ext cx="3835440" cy="998640"/>
            <a:chOff x="1365120" y="1841400"/>
            <a:chExt cx="3835440" cy="998640"/>
          </a:xfrm>
        </p:grpSpPr>
        <p:pic>
          <p:nvPicPr>
            <p:cNvPr id="149" name="TextBox 7" descr=""/>
            <p:cNvPicPr/>
            <p:nvPr/>
          </p:nvPicPr>
          <p:blipFill>
            <a:blip r:embed="rId2"/>
            <a:stretch/>
          </p:blipFill>
          <p:spPr>
            <a:xfrm>
              <a:off x="1365120" y="1841400"/>
              <a:ext cx="3835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28840" y="2000160"/>
              <a:ext cx="371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ПЛАН 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4"/>
          <p:cNvGrpSpPr/>
          <p:nvPr/>
        </p:nvGrpSpPr>
        <p:grpSpPr>
          <a:xfrm>
            <a:off x="6572160" y="2928960"/>
            <a:ext cx="2428920" cy="3500280"/>
            <a:chOff x="6572160" y="2928960"/>
            <a:chExt cx="2428920" cy="3500280"/>
          </a:xfrm>
        </p:grpSpPr>
        <p:grpSp>
          <p:nvGrpSpPr>
            <p:cNvPr id="152" name="Загнутый угол 8"/>
            <p:cNvGrpSpPr/>
            <p:nvPr/>
          </p:nvGrpSpPr>
          <p:grpSpPr>
            <a:xfrm>
              <a:off x="6572160" y="2928960"/>
              <a:ext cx="2428920" cy="3500280"/>
              <a:chOff x="6572160" y="2928960"/>
              <a:chExt cx="2428920" cy="3500280"/>
            </a:xfrm>
          </p:grpSpPr>
          <p:pic>
            <p:nvPicPr>
              <p:cNvPr id="153" name="Загнутый угол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72160" y="2928960"/>
                <a:ext cx="2428920" cy="35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630840" y="2967120"/>
                <a:ext cx="2315520" cy="25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1" descr=""/>
            <p:cNvPicPr/>
            <p:nvPr/>
          </p:nvPicPr>
          <p:blipFill>
            <a:blip r:embed="rId4"/>
            <a:stretch/>
          </p:blipFill>
          <p:spPr>
            <a:xfrm>
              <a:off x="7107480" y="3798360"/>
              <a:ext cx="115776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0"/>
            <p:cNvSpPr/>
            <p:nvPr/>
          </p:nvSpPr>
          <p:spPr>
            <a:xfrm>
              <a:off x="6766920" y="3159000"/>
              <a:ext cx="1974960" cy="368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НАЗВАНИЕ ГРУППЫ РАСТЕ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6766920" y="4949640"/>
              <a:ext cx="1974960" cy="3373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СОБЕННОСТИ ДАННОГО ВИДА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ru-RU" sz="800" spc="-1" strike="noStrike">
                  <a:solidFill>
                    <a:srgbClr val="ffffff"/>
                  </a:solidFill>
                  <a:latin typeface="Arial"/>
                </a:rPr>
                <a:t>на какие группы делятся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6766920" y="3478680"/>
              <a:ext cx="1974960" cy="215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СХЕМАТИЧЕСКИЙ РИСУ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6698880" y="5397480"/>
              <a:ext cx="2034000" cy="3070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НАЗВАНИЕ  РАСТЕНИЙ 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ПРЕДСТАВИТЕЛЕЙ ДАННОЙ ГРУПП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Text Box 4"/>
          <p:cNvGrpSpPr/>
          <p:nvPr/>
        </p:nvGrpSpPr>
        <p:grpSpPr>
          <a:xfrm>
            <a:off x="2152800" y="1030320"/>
            <a:ext cx="4046400" cy="768240"/>
            <a:chOff x="2152800" y="1030320"/>
            <a:chExt cx="4046400" cy="768240"/>
          </a:xfrm>
        </p:grpSpPr>
        <p:pic>
          <p:nvPicPr>
            <p:cNvPr id="161" name="Text Box 4" descr=""/>
            <p:cNvPicPr/>
            <p:nvPr/>
          </p:nvPicPr>
          <p:blipFill>
            <a:blip r:embed="rId1"/>
            <a:stretch/>
          </p:blipFill>
          <p:spPr>
            <a:xfrm>
              <a:off x="2152800" y="1030320"/>
              <a:ext cx="4046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14720" y="11430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5"/>
          <p:cNvSpPr/>
          <p:nvPr/>
        </p:nvSpPr>
        <p:spPr>
          <a:xfrm>
            <a:off x="6073920" y="2602080"/>
            <a:ext cx="2641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785880" y="2602080"/>
            <a:ext cx="2146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571920" y="2602080"/>
            <a:ext cx="165744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50960" y="4643280"/>
            <a:ext cx="18781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0" y="4643280"/>
            <a:ext cx="24289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14920" y="4643280"/>
            <a:ext cx="252108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7358040" y="4643280"/>
            <a:ext cx="178596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508640" y="1790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2060280" y="1790640"/>
            <a:ext cx="1584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5445000" y="1790640"/>
            <a:ext cx="1656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1009800" y="3214800"/>
            <a:ext cx="10699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2031840" y="3214800"/>
            <a:ext cx="8398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H="1">
            <a:off x="5873400" y="3159000"/>
            <a:ext cx="12985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115040" y="3159000"/>
            <a:ext cx="99396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1"/>
          <p:cNvGrpSpPr/>
          <p:nvPr/>
        </p:nvGrpSpPr>
        <p:grpSpPr>
          <a:xfrm>
            <a:off x="433440" y="103320"/>
            <a:ext cx="8613720" cy="768240"/>
            <a:chOff x="433440" y="103320"/>
            <a:chExt cx="8613720" cy="768240"/>
          </a:xfrm>
        </p:grpSpPr>
        <p:pic>
          <p:nvPicPr>
            <p:cNvPr id="178" name="Rectangle 21" descr=""/>
            <p:cNvPicPr/>
            <p:nvPr/>
          </p:nvPicPr>
          <p:blipFill>
            <a:blip r:embed="rId2"/>
            <a:stretch/>
          </p:blipFill>
          <p:spPr>
            <a:xfrm>
              <a:off x="433440" y="103320"/>
              <a:ext cx="8613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39720" y="214200"/>
              <a:ext cx="82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Заполните  схему. Приведите приме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429000" y="3571920"/>
            <a:ext cx="18781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т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42960" y="5429160"/>
            <a:ext cx="24289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357960" y="5429160"/>
            <a:ext cx="228600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куста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2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Овал 3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42800" y="4285800"/>
            <a:ext cx="6257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14840" y="521460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ение с пометами: стр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0" y="1071720"/>
            <a:ext cx="814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в тетради на печатной осн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285840" y="178596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   № 1 и 2 на стр.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0"/>
            <a:ext cx="36432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5712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35728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2000160"/>
            <a:ext cx="2857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ДН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00092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УШ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643800" y="1143000"/>
            <a:ext cx="1785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286160" y="1143000"/>
            <a:ext cx="2214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УСТАР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1"/>
          <p:cNvGrpSpPr/>
          <p:nvPr/>
        </p:nvGrpSpPr>
        <p:grpSpPr>
          <a:xfrm>
            <a:off x="-66600" y="658800"/>
            <a:ext cx="8223120" cy="547560"/>
            <a:chOff x="-66600" y="658800"/>
            <a:chExt cx="8223120" cy="547560"/>
          </a:xfrm>
        </p:grpSpPr>
        <p:pic>
          <p:nvPicPr>
            <p:cNvPr id="198" name="Rectangle 1" descr=""/>
            <p:cNvPicPr/>
            <p:nvPr/>
          </p:nvPicPr>
          <p:blipFill>
            <a:blip r:embed="rId1"/>
            <a:stretch/>
          </p:blipFill>
          <p:spPr>
            <a:xfrm>
              <a:off x="-66600" y="658800"/>
              <a:ext cx="8223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3840" y="714960"/>
              <a:ext cx="80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ервая строка —одно слово предмет, о котором пойдет ре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10"/>
          <p:cNvGrpSpPr/>
          <p:nvPr/>
        </p:nvGrpSpPr>
        <p:grpSpPr>
          <a:xfrm>
            <a:off x="-60480" y="1584360"/>
            <a:ext cx="9259920" cy="530280"/>
            <a:chOff x="-60480" y="1584360"/>
            <a:chExt cx="9259920" cy="530280"/>
          </a:xfrm>
        </p:grpSpPr>
        <p:pic>
          <p:nvPicPr>
            <p:cNvPr id="20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60480" y="158436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6430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торая строка — два слова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описание свойств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2857680" y="2000160"/>
            <a:ext cx="3071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НОГ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1928880" y="242892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572240" y="2000160"/>
            <a:ext cx="1357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Я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4929120" y="242892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429000" y="242892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ЕТВ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5929200" y="2000160"/>
            <a:ext cx="1643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21"/>
          <p:cNvGrpSpPr/>
          <p:nvPr/>
        </p:nvGrpSpPr>
        <p:grpSpPr>
          <a:xfrm>
            <a:off x="-85680" y="3017880"/>
            <a:ext cx="8448480" cy="530280"/>
            <a:chOff x="-85680" y="3017880"/>
            <a:chExt cx="8448480" cy="530280"/>
          </a:xfrm>
        </p:grpSpPr>
        <p:pic>
          <p:nvPicPr>
            <p:cNvPr id="212" name="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-85680" y="3017880"/>
              <a:ext cx="8448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3071880"/>
              <a:ext cx="82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етья строка — тир слова 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характерные действия 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2"/>
          <p:cNvSpPr/>
          <p:nvPr/>
        </p:nvSpPr>
        <p:spPr>
          <a:xfrm>
            <a:off x="185724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ЦВЕ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1428840" y="3929040"/>
            <a:ext cx="2357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ЩИЩ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5357880" y="39290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КРАШ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42968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ВЯ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557208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РМ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71484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Д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Прямоугольник 28"/>
          <p:cNvGrpSpPr/>
          <p:nvPr/>
        </p:nvGrpSpPr>
        <p:grpSpPr>
          <a:xfrm>
            <a:off x="-79200" y="4370400"/>
            <a:ext cx="9369360" cy="530280"/>
            <a:chOff x="-79200" y="4370400"/>
            <a:chExt cx="9369360" cy="530280"/>
          </a:xfrm>
        </p:grpSpPr>
        <p:pic>
          <p:nvPicPr>
            <p:cNvPr id="221" name="Прямоугольник 28" descr=""/>
            <p:cNvPicPr/>
            <p:nvPr/>
          </p:nvPicPr>
          <p:blipFill>
            <a:blip r:embed="rId4"/>
            <a:stretch/>
          </p:blipFill>
          <p:spPr>
            <a:xfrm>
              <a:off x="-79200" y="4370400"/>
              <a:ext cx="9369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4290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етвертая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трока-четыре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слова,  личное отношение автора к предмет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9"/>
          <p:cNvSpPr/>
          <p:nvPr/>
        </p:nvSpPr>
        <p:spPr>
          <a:xfrm>
            <a:off x="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Ы БУДЕМ ВАС ОБЕР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492912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БУЕМСЯ ИХ КРА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2500200" y="521496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ДЕЙ ВЫ РАДУЙТЕ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32"/>
          <p:cNvGrpSpPr/>
          <p:nvPr/>
        </p:nvGrpSpPr>
        <p:grpSpPr>
          <a:xfrm>
            <a:off x="-60480" y="5730840"/>
            <a:ext cx="9259920" cy="530280"/>
            <a:chOff x="-60480" y="5730840"/>
            <a:chExt cx="9259920" cy="530280"/>
          </a:xfrm>
        </p:grpSpPr>
        <p:pic>
          <p:nvPicPr>
            <p:cNvPr id="227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-60480" y="573084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5786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ятая строка — одно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ло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 характеризующее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уть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 предм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33"/>
          <p:cNvSpPr/>
          <p:nvPr/>
        </p:nvSpPr>
        <p:spPr>
          <a:xfrm>
            <a:off x="4714920" y="621504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4"/>
          <p:cNvSpPr/>
          <p:nvPr/>
        </p:nvSpPr>
        <p:spPr>
          <a:xfrm>
            <a:off x="235728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6715080" y="6215040"/>
            <a:ext cx="24289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2143080" y="1785960"/>
            <a:ext cx="62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786040"/>
            <a:ext cx="8215200" cy="3357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. 64– 67 –читать, отвечать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индивидуальных сообщений о необыкновенных растениях нашей план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вопросов проверочного теста по изученной теме к следующему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00040" y="1071720"/>
            <a:ext cx="62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5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2"/>
          <p:cNvGrpSpPr/>
          <p:nvPr/>
        </p:nvGrpSpPr>
        <p:grpSpPr>
          <a:xfrm>
            <a:off x="-23760" y="878040"/>
            <a:ext cx="8655120" cy="841320"/>
            <a:chOff x="-23760" y="878040"/>
            <a:chExt cx="8655120" cy="841320"/>
          </a:xfrm>
        </p:grpSpPr>
        <p:pic>
          <p:nvPicPr>
            <p:cNvPr id="23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23760" y="878040"/>
              <a:ext cx="86551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14200" y="1000080"/>
              <a:ext cx="83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писок используемых источник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3"/>
          <p:cNvSpPr/>
          <p:nvPr/>
        </p:nvSpPr>
        <p:spPr>
          <a:xfrm>
            <a:off x="285840" y="2571840"/>
            <a:ext cx="8572320" cy="20142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-orenburg.narod.ru/nature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endzakaz.ru/list.php?table=k_om3&amp;page_title=%CE%EA%F0%F3%E6%E0%FE%F9%E8%E9+%EC%E8%F0.+3+%EA%EB%E0%F1%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pt4web.ru/okruzhajushhijj-mir/okruzhajushhijj-m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nm.ru/blogs/BlackWolfik/wonderful-plants-wallpape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000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одержимое 3"/>
          <p:cNvGrpSpPr/>
          <p:nvPr/>
        </p:nvGrpSpPr>
        <p:grpSpPr>
          <a:xfrm>
            <a:off x="30240" y="3035160"/>
            <a:ext cx="9246960" cy="2354400"/>
            <a:chOff x="30240" y="3035160"/>
            <a:chExt cx="9246960" cy="23544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0240" y="3035160"/>
              <a:ext cx="92469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85840" y="3071880"/>
              <a:ext cx="85723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говори, чему учился, а говори, что узнал»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4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48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ст «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Прямоугольник 4"/>
          <p:cNvGrpSpPr/>
          <p:nvPr/>
        </p:nvGrpSpPr>
        <p:grpSpPr>
          <a:xfrm>
            <a:off x="-225360" y="1231920"/>
            <a:ext cx="9424800" cy="1401840"/>
            <a:chOff x="-225360" y="1231920"/>
            <a:chExt cx="9424800" cy="1401840"/>
          </a:xfrm>
        </p:grpSpPr>
        <p:pic>
          <p:nvPicPr>
            <p:cNvPr id="5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225360" y="1231920"/>
              <a:ext cx="9424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35720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колько состояний воды бывает 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природе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5"/>
          <p:cNvGrpSpPr/>
          <p:nvPr/>
        </p:nvGrpSpPr>
        <p:grpSpPr>
          <a:xfrm>
            <a:off x="390600" y="2889360"/>
            <a:ext cx="3736800" cy="1042920"/>
            <a:chOff x="390600" y="2889360"/>
            <a:chExt cx="3736800" cy="1042920"/>
          </a:xfrm>
        </p:grpSpPr>
        <p:pic>
          <p:nvPicPr>
            <p:cNvPr id="5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90600" y="288936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90480" y="31194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) тр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6"/>
          <p:cNvGrpSpPr/>
          <p:nvPr/>
        </p:nvGrpSpPr>
        <p:grpSpPr>
          <a:xfrm>
            <a:off x="317520" y="4243320"/>
            <a:ext cx="3736800" cy="1041480"/>
            <a:chOff x="317520" y="4243320"/>
            <a:chExt cx="3736800" cy="1041480"/>
          </a:xfrm>
        </p:grpSpPr>
        <p:pic>
          <p:nvPicPr>
            <p:cNvPr id="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7520" y="4243320"/>
              <a:ext cx="3736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9200" y="44766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б) дв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4449600" y="3060720"/>
            <a:ext cx="42069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4" name="Скругленный прямоугольник 10"/>
          <p:cNvGrpSpPr/>
          <p:nvPr/>
        </p:nvGrpSpPr>
        <p:grpSpPr>
          <a:xfrm>
            <a:off x="390600" y="5529240"/>
            <a:ext cx="3736800" cy="1042920"/>
            <a:chOff x="390600" y="5529240"/>
            <a:chExt cx="3736800" cy="1042920"/>
          </a:xfrm>
        </p:grpSpPr>
        <p:pic>
          <p:nvPicPr>
            <p:cNvPr id="65" name="Скругленный 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00" y="552924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0480" y="576252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) од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4880" y="300024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9" name="Прямоугольник 4"/>
          <p:cNvGrpSpPr/>
          <p:nvPr/>
        </p:nvGrpSpPr>
        <p:grpSpPr>
          <a:xfrm>
            <a:off x="-122400" y="165240"/>
            <a:ext cx="9321840" cy="1395360"/>
            <a:chOff x="-122400" y="165240"/>
            <a:chExt cx="9321840" cy="1395360"/>
          </a:xfrm>
        </p:grpSpPr>
        <p:pic>
          <p:nvPicPr>
            <p:cNvPr id="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22400" y="165240"/>
              <a:ext cx="932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2858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.  Какое свойство воды названо невер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7"/>
          <p:cNvGrpSpPr/>
          <p:nvPr/>
        </p:nvGrpSpPr>
        <p:grpSpPr>
          <a:xfrm>
            <a:off x="225360" y="1822320"/>
            <a:ext cx="4761000" cy="1397160"/>
            <a:chOff x="225360" y="1822320"/>
            <a:chExt cx="4761000" cy="1397160"/>
          </a:xfrm>
        </p:grpSpPr>
        <p:pic>
          <p:nvPicPr>
            <p:cNvPr id="73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25360" y="18223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5120" y="2036880"/>
              <a:ext cx="42847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вода прозрач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8"/>
          <p:cNvGrpSpPr/>
          <p:nvPr/>
        </p:nvGrpSpPr>
        <p:grpSpPr>
          <a:xfrm>
            <a:off x="152280" y="3322800"/>
            <a:ext cx="4900680" cy="1395360"/>
            <a:chOff x="152280" y="3322800"/>
            <a:chExt cx="4900680" cy="1395360"/>
          </a:xfrm>
        </p:grpSpPr>
        <p:pic>
          <p:nvPicPr>
            <p:cNvPr id="7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2280" y="3322800"/>
              <a:ext cx="49006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840" y="3537000"/>
              <a:ext cx="442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вода имеет белый ц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9"/>
          <p:cNvGrpSpPr/>
          <p:nvPr/>
        </p:nvGrpSpPr>
        <p:grpSpPr>
          <a:xfrm>
            <a:off x="152280" y="4821120"/>
            <a:ext cx="4761000" cy="1397160"/>
            <a:chOff x="152280" y="4821120"/>
            <a:chExt cx="4761000" cy="1397160"/>
          </a:xfrm>
        </p:grpSpPr>
        <p:pic>
          <p:nvPicPr>
            <p:cNvPr id="79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2280" y="48211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840" y="5037120"/>
              <a:ext cx="42843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вода не имеет запа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11749" t="0" r="8736" b="8285"/>
          <a:stretch/>
        </p:blipFill>
        <p:spPr>
          <a:xfrm>
            <a:off x="4643280" y="3500280"/>
            <a:ext cx="3997440" cy="3016440"/>
          </a:xfrm>
          <a:prstGeom prst="rect">
            <a:avLst/>
          </a:prstGeom>
          <a:ln w="0">
            <a:noFill/>
          </a:ln>
        </p:spPr>
      </p:pic>
      <p:grpSp>
        <p:nvGrpSpPr>
          <p:cNvPr id="83" name="Прямоугольник 4"/>
          <p:cNvGrpSpPr/>
          <p:nvPr/>
        </p:nvGrpSpPr>
        <p:grpSpPr>
          <a:xfrm>
            <a:off x="-244440" y="590400"/>
            <a:ext cx="9443880" cy="1397160"/>
            <a:chOff x="-244440" y="590400"/>
            <a:chExt cx="9443880" cy="139716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142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акие объекты природы не могут существовать без воды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5"/>
          <p:cNvGrpSpPr/>
          <p:nvPr/>
        </p:nvGrpSpPr>
        <p:grpSpPr>
          <a:xfrm>
            <a:off x="298440" y="2109960"/>
            <a:ext cx="4114800" cy="961920"/>
            <a:chOff x="298440" y="2109960"/>
            <a:chExt cx="4114800" cy="961920"/>
          </a:xfrm>
        </p:grpSpPr>
        <p:pic>
          <p:nvPicPr>
            <p:cNvPr id="8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4114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76280" y="226224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солнц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6"/>
          <p:cNvGrpSpPr/>
          <p:nvPr/>
        </p:nvGrpSpPr>
        <p:grpSpPr>
          <a:xfrm>
            <a:off x="298440" y="3535200"/>
            <a:ext cx="4237200" cy="970200"/>
            <a:chOff x="298440" y="3535200"/>
            <a:chExt cx="4237200" cy="970200"/>
          </a:xfrm>
        </p:grpSpPr>
        <p:pic>
          <p:nvPicPr>
            <p:cNvPr id="9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42372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6280" y="3691080"/>
              <a:ext cx="3886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возд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7"/>
          <p:cNvGrpSpPr/>
          <p:nvPr/>
        </p:nvGrpSpPr>
        <p:grpSpPr>
          <a:xfrm>
            <a:off x="365040" y="4962600"/>
            <a:ext cx="4121280" cy="968400"/>
            <a:chOff x="365040" y="4962600"/>
            <a:chExt cx="4121280" cy="968400"/>
          </a:xfrm>
        </p:grpSpPr>
        <p:pic>
          <p:nvPicPr>
            <p:cNvPr id="9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4121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7560" y="511956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подсолн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71960" y="3071880"/>
            <a:ext cx="45576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4"/>
          <p:cNvGrpSpPr/>
          <p:nvPr/>
        </p:nvGrpSpPr>
        <p:grpSpPr>
          <a:xfrm>
            <a:off x="-244440" y="590400"/>
            <a:ext cx="9443880" cy="841680"/>
            <a:chOff x="-244440" y="590400"/>
            <a:chExt cx="9443880" cy="84168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71424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 какой группе относится вода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Скругленный прямоугольник 5"/>
          <p:cNvGrpSpPr/>
          <p:nvPr/>
        </p:nvGrpSpPr>
        <p:grpSpPr>
          <a:xfrm>
            <a:off x="298440" y="2109960"/>
            <a:ext cx="5688000" cy="961920"/>
            <a:chOff x="298440" y="2109960"/>
            <a:chExt cx="5688000" cy="961920"/>
          </a:xfrm>
        </p:grpSpPr>
        <p:pic>
          <p:nvPicPr>
            <p:cNvPr id="10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568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6280" y="2262240"/>
              <a:ext cx="53341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6"/>
          <p:cNvGrpSpPr/>
          <p:nvPr/>
        </p:nvGrpSpPr>
        <p:grpSpPr>
          <a:xfrm>
            <a:off x="298440" y="3535200"/>
            <a:ext cx="5688000" cy="970200"/>
            <a:chOff x="298440" y="3535200"/>
            <a:chExt cx="5688000" cy="97020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5688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80" y="3691080"/>
              <a:ext cx="5334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7"/>
          <p:cNvGrpSpPr/>
          <p:nvPr/>
        </p:nvGrpSpPr>
        <p:grpSpPr>
          <a:xfrm>
            <a:off x="365040" y="4962600"/>
            <a:ext cx="5548320" cy="968400"/>
            <a:chOff x="365040" y="4962600"/>
            <a:chExt cx="5548320" cy="968400"/>
          </a:xfrm>
        </p:grpSpPr>
        <p:pic>
          <p:nvPicPr>
            <p:cNvPr id="10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5548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7560" y="5119560"/>
              <a:ext cx="5191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е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0200" y="3429000"/>
            <a:ext cx="2071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215120" y="2143080"/>
            <a:ext cx="13575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714920" y="342900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2920" y="2143080"/>
            <a:ext cx="2319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29040" y="578628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0200" y="4714920"/>
            <a:ext cx="1143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57880" y="2143080"/>
            <a:ext cx="1714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4200" y="342900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71840" y="2143080"/>
            <a:ext cx="2643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240" y="3429000"/>
            <a:ext cx="2714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ЮЛЬ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14200" y="471492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14200" y="5786280"/>
            <a:ext cx="1214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4304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500800" y="4714920"/>
            <a:ext cx="3143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ЗАБ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8668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57760" y="471492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0"/>
          <p:cNvGrpSpPr/>
          <p:nvPr/>
        </p:nvGrpSpPr>
        <p:grpSpPr>
          <a:xfrm>
            <a:off x="12600" y="590400"/>
            <a:ext cx="8313840" cy="1635120"/>
            <a:chOff x="12600" y="590400"/>
            <a:chExt cx="8313840" cy="1635120"/>
          </a:xfrm>
        </p:grpSpPr>
        <p:pic>
          <p:nvPicPr>
            <p:cNvPr id="127" name="TextBox 20" descr=""/>
            <p:cNvPicPr/>
            <p:nvPr/>
          </p:nvPicPr>
          <p:blipFill>
            <a:blip r:embed="rId1"/>
            <a:stretch/>
          </p:blipFill>
          <p:spPr>
            <a:xfrm>
              <a:off x="12600" y="590400"/>
              <a:ext cx="83138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4200" y="714240"/>
              <a:ext cx="764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 Antiqua"/>
                </a:rPr>
                <a:t>НАЗОВИТЕ ПРЕДМЕТЫ, КОТОРЫЕ ОТНОСЯТСЯ К ЖИВОЙ ПРИРОД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855720"/>
            <a:ext cx="3786120" cy="59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аснеют на солнц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сен стволы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зносится всюду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Запах смолы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 ландышей белых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исти висят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 тонок и нежен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х арома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лесу иду я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пою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 слышит орешник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мою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возь ветви густы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лнце глядит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рёзка в ответ мн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ствою шум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TextBox 2"/>
          <p:cNvGrpSpPr/>
          <p:nvPr/>
        </p:nvGrpSpPr>
        <p:grpSpPr>
          <a:xfrm>
            <a:off x="3151080" y="49320"/>
            <a:ext cx="6048360" cy="1066680"/>
            <a:chOff x="3151080" y="49320"/>
            <a:chExt cx="6048360" cy="1066680"/>
          </a:xfrm>
        </p:grpSpPr>
        <p:pic>
          <p:nvPicPr>
            <p:cNvPr id="132" name="TextBox 2" descr=""/>
            <p:cNvPicPr/>
            <p:nvPr/>
          </p:nvPicPr>
          <p:blipFill>
            <a:blip r:embed="rId1"/>
            <a:stretch/>
          </p:blipFill>
          <p:spPr>
            <a:xfrm>
              <a:off x="3151080" y="49320"/>
              <a:ext cx="6048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14800" y="214200"/>
              <a:ext cx="59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http://go4.imgsmail.ru/imgpreview?key=http%3A//mr-parkett.ru/upload/Image/2/10.png&amp;mb=imgdb_preview_1630"/>
          <p:cNvPicPr/>
          <p:nvPr/>
        </p:nvPicPr>
        <p:blipFill>
          <a:blip r:embed="rId2"/>
          <a:stretch/>
        </p:blipFill>
        <p:spPr>
          <a:xfrm>
            <a:off x="4929120" y="1857240"/>
            <a:ext cx="3429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28880" y="1071720"/>
            <a:ext cx="4429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TextBox 3"/>
          <p:cNvGrpSpPr/>
          <p:nvPr/>
        </p:nvGrpSpPr>
        <p:grpSpPr>
          <a:xfrm>
            <a:off x="512640" y="2712960"/>
            <a:ext cx="8186760" cy="2230560"/>
            <a:chOff x="512640" y="2712960"/>
            <a:chExt cx="8186760" cy="2230560"/>
          </a:xfrm>
        </p:grpSpPr>
        <p:pic>
          <p:nvPicPr>
            <p:cNvPr id="138" name="TextBox 3" descr=""/>
            <p:cNvPicPr/>
            <p:nvPr/>
          </p:nvPicPr>
          <p:blipFill>
            <a:blip r:embed="rId1"/>
            <a:stretch/>
          </p:blipFill>
          <p:spPr>
            <a:xfrm>
              <a:off x="512640" y="2712960"/>
              <a:ext cx="81867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1680" y="2928960"/>
              <a:ext cx="8072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кие бывают растения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XTreme.ws</cp:lastModifiedBy>
  <dcterms:modified xsi:type="dcterms:W3CDTF">2020-10-26T11:35:22Z</dcterms:modified>
  <cp:revision>182</cp:revision>
  <dc:subject/>
  <dc:title>Colorful Spring Flowers</dc:title>
</cp:coreProperties>
</file>